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EA500-8967-4487-98A1-E0C1146C7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DF0AB-EA03-405F-8EF9-13571C93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74AC-EACE-4A64-8815-8C7A05E09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875AA-88D9-4AEA-93D7-A2D4DA663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4A390-76FB-4F0B-B0AA-CFB857B1FF7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A509E-6798-48B1-A2AD-98F4572507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07605-8F46-4140-AFC7-C88C63A7C7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9050B-CB36-4591-959E-A007459F73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83807B-5EBA-46C2-A0E0-607E153305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BDC1E-213C-4F43-8B70-210E12547D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C43D9-7DBE-4EF5-B787-B7C132D6AC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2B3A8-A0E0-4C50-9179-7CA4EAB2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6E88E-5EA9-445A-87C6-AE9C176361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AE56FC-1EFD-448D-B44A-F4264EB3FA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26DDE-3B53-444E-A2C1-84D852022D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901BE1-19DE-4F28-9F94-A73E20DF1C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D325FB-CBC5-4A86-ABA9-72ECC898F1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177AC-2F9C-4C5C-A9F4-7098E79E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2D4A-2618-416B-A0B9-C1DCDDAB1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60219-4ABD-4DC4-B4C8-A0327B169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E087B-3E84-4F93-9F64-1DA14147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620F-910C-4B15-B77D-FEBA0A70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93BC-79BB-4BA8-ADDB-60BB71E8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7AFB0-1F32-4340-8E67-ED7A37D81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9333-45E0-4D57-BD88-4E25161E79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0146-4F83-468C-90FD-CCEC4169E2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H</a:t>
            </a:r>
            <a:endParaRPr b="0" lang="en-US" sz="66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iran Cinar and Tina Touri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pH</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 is a test that tells you whether a substance is acidic, basic, or neutral.</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ange is 0-14.</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less than 7 that means the substance is acidic.</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more than 7 that means it’s basic.</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7 that means it’s neutral.</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pH is Important</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 is important because if the substance is too acidic or basic then the organisms living in the water will die.</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not be safe for people to use or drink and it would burn our skin to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Find pH</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t on gloves and goggles to protect your hands and eyes.</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Fill a test tube with 5mL of water from your sample.</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Add 8 drops of cresol red indicator.</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Cap the test tube and turn it upside down several times (until the contents are mixed).</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Hold the octet comparator facing you so you can see the writ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2"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fontScale="96000"/>
          </a:bodyPr>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Insert the test tube into the left hand slot of the octet comparator and compare the color of the test tube solution to the colors in the octet comparator. </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If the solution in the test tube is the same as any of the colors in the octet comparator, your pH is the same as the number under that color.</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If your solution in the test tube is in between two of the colors in the octet comparator, your pH is between the numbers under those colors. Then find the average of those two numbers.</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Clean all equipment</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ult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1/05/10 the pH of the Charles River was 7.2</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1/27/10 the pH was 7.5</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2/12/10 the pH was out of range.</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2/25/10 the pH was out of range.</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ffects pH</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things that affects pH are when lime-rich bedrock or concrete pavement gets into the river, because they have calcium.</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when it rains, sometimes the rain can mix with fumes from cars and factories, to make acid rain and it washes into the river.</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lution also affects pH.</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ahoma"/>
              </a:rPr>
              <a:t>The End !!!</a:t>
            </a:r>
            <a:endParaRPr b="0" lang="en-US" sz="96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Wingdings"/>
                <a:ea typeface="Wingdings"/>
              </a:rPr>
              <a:t></a:t>
            </a:r>
            <a:r>
              <a:rPr b="0" lang="en-US" sz="10000" spc="-1" strike="noStrike">
                <a:solidFill>
                  <a:srgbClr val="ffffff"/>
                </a:solidFill>
                <a:latin typeface="Tahoma"/>
              </a:rPr>
              <a:t> </a:t>
            </a:r>
            <a:r>
              <a:rPr b="0" lang="en-US" sz="10000" spc="-1" strike="noStrike">
                <a:solidFill>
                  <a:srgbClr val="ffffff"/>
                </a:solidFill>
                <a:latin typeface="Wingdings"/>
                <a:ea typeface="Wingdings"/>
              </a:rPr>
              <a:t></a:t>
            </a:r>
            <a:r>
              <a:rPr b="0" lang="en-US" sz="10000" spc="-1" strike="noStrike">
                <a:solidFill>
                  <a:srgbClr val="ffffff"/>
                </a:solidFill>
                <a:latin typeface="Tahoma"/>
              </a:rPr>
              <a:t> </a:t>
            </a:r>
            <a:r>
              <a:rPr b="0" lang="en-US" sz="10000" spc="-1" strike="noStrike">
                <a:solidFill>
                  <a:srgbClr val="ffffff"/>
                </a:solidFill>
                <a:latin typeface="Wingdings"/>
                <a:ea typeface="Wingdings"/>
              </a:rPr>
              <a:t></a:t>
            </a:r>
            <a:r>
              <a:rPr b="0" lang="en-US" sz="8000" spc="-1" strike="noStrike">
                <a:solidFill>
                  <a:srgbClr val="ffffff"/>
                </a:solidFill>
                <a:latin typeface="Tahoma"/>
              </a:rPr>
              <a:t> </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10:08Z</dcterms:created>
  <dc:creator>Student</dc:creator>
  <dc:description/>
  <dc:language>en-US</dc:language>
  <cp:lastModifiedBy>Student</cp:lastModifiedBy>
  <dcterms:modified xsi:type="dcterms:W3CDTF">2010-03-10T17:11:39Z</dcterms:modified>
  <cp:revision>5</cp:revision>
  <dc:subject/>
  <dc:title>pH</dc:title>
</cp:coreProperties>
</file>